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A9B4-92B2-4151-B423-8CD5CB826D97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205D-113F-4A8F-A7A3-3139E00B81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E8CE-3C7B-4A2F-B10C-9655CFC8B67C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E27-E223-4278-82C4-0C970352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E39-8694-482F-9C8E-B793DEF8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DD5-85B1-4EDF-BCD1-2AE51D2F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022-BA07-47F1-B500-C92C4FA9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E5E8-FF1B-4CE7-BADC-EACC7B4C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BEAD-9FAF-41F1-A9AC-E9A2FD2B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C248-F1EC-43AF-B4E5-983BF682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AD0A-8D45-4B4A-830F-975B9797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8A73-D1FC-4051-9E0F-AEC1BCF2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BAD4-ABFB-42CD-996D-D5CB671B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093F-AC98-4EE1-B7FA-D9D2DF2B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CF1-9638-43DD-B4C0-61E4B014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E4D6-D21E-4FD4-B331-0428CF33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FB16-AB68-4C53-85E5-9246530F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62BA-10DB-496E-BBCD-D1699682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A624-D5C9-4D9D-A160-AA4B1644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DAB7-71D8-48F2-8E4E-95106873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A36-3561-418E-9797-F2318F89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D2A-24CA-4116-A854-C503E2EE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8F8-5DC5-4F6D-A044-0EF8EDAE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F52-8B63-44ED-A804-E1A1E49F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8B1-F6C4-498E-95F4-603A5F9A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947-281F-4C13-9024-C52E2090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F03-1208-4DBA-A08C-505D16BF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360" cy="1524240"/>
          </a:xfrm>
          <a:custGeom>
            <a:avLst/>
            <a:gdLst/>
            <a:ahLst/>
            <a:rect l="l" t="t" r="r" b="b"/>
            <a:pathLst>
              <a:path w="0" h="1524003">
                <a:moveTo>
                  <a:pt x="0" y="0"/>
                </a:moveTo>
                <a:lnTo>
                  <a:pt x="1" y="15240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572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572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572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8374-D7D5-491B-8D47-F43BC8494053}" type="slidenum"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360" cy="1295640"/>
            <a:chOff x="8153280" y="152280"/>
            <a:chExt cx="792360" cy="129564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400" y="152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520" y="152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400" y="320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520" y="320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640" y="320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400" y="488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520" y="488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640" y="488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760" y="488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400" y="65592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520" y="65592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640" y="65592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400" y="824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520" y="824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640" y="824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760" y="824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400" y="992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520" y="992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640" y="99216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60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400" y="1160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520" y="1160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640" y="116028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400" y="1328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640" y="1328040"/>
              <a:ext cx="119880" cy="119880"/>
            </a:xfrm>
            <a:custGeom>
              <a:avLst/>
              <a:gdLst>
                <a:gd name="textAreaLeft" fmla="*/ 17280 w 119880"/>
                <a:gd name="textAreaRight" fmla="*/ 102600 w 119880"/>
                <a:gd name="textAreaTop" fmla="*/ 17280 h 119880"/>
                <a:gd name="textAreaBottom" fmla="*/ 102600 h 119880"/>
              </a:gdLst>
              <a:ahLst/>
              <a:rect l="textAreaLeft" t="textAreaTop" r="textAreaRight" b="textAreaBottom"/>
              <a:pathLst>
                <a:path w="120024" h="119941">
                  <a:moveTo>
                    <a:pt x="0" y="59971"/>
                  </a:moveTo>
                  <a:lnTo>
                    <a:pt x="0" y="59971"/>
                  </a:lnTo>
                  <a:arcTo wR="60012" hR="59971" stAng="10800000" swAng="5400000"/>
                  <a:lnTo>
                    <a:pt x="60012" y="0"/>
                  </a:lnTo>
                  <a:arcTo wR="60012" hR="59971" stAng="-5400000" swAng="5400000"/>
                  <a:lnTo>
                    <a:pt x="120024" y="59971"/>
                  </a:lnTo>
                  <a:arcTo wR="60012" hR="59971" stAng="0" swAng="5400000"/>
                  <a:lnTo>
                    <a:pt x="60012" y="119942"/>
                  </a:lnTo>
                  <a:arcTo wR="60012" hR="59971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360" cy="4496040"/>
          </a:xfrm>
          <a:custGeom>
            <a:avLst/>
            <a:gdLst/>
            <a:ahLst/>
            <a:rect l="l" t="t" r="r" b="b"/>
            <a:pathLst>
              <a:path w="0" h="4495803">
                <a:moveTo>
                  <a:pt x="0" y="0"/>
                </a:moveTo>
                <a:lnTo>
                  <a:pt x="1" y="44958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36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36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36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520" y="327636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40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40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40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520" y="356040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40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520" y="384336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520" y="412740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600" cy="20304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3040"/>
                <a:gd name="textAreaBottom" fmla="*/ 173520 h 203040"/>
              </a:gdLst>
              <a:ahLst/>
              <a:rect l="textAreaLeft" t="textAreaTop" r="textAreaRight" b="textAreaBottom"/>
              <a:pathLst>
                <a:path w="201616" h="203197">
                  <a:moveTo>
                    <a:pt x="0" y="101599"/>
                  </a:moveTo>
                  <a:lnTo>
                    <a:pt x="0" y="101599"/>
                  </a:lnTo>
                  <a:arcTo wR="100808" hR="101599" stAng="10800000" swAng="5400000"/>
                  <a:lnTo>
                    <a:pt x="100808" y="0"/>
                  </a:lnTo>
                  <a:arcTo wR="100808" hR="101599" stAng="-5400000" swAng="5400000"/>
                  <a:lnTo>
                    <a:pt x="201616" y="101599"/>
                  </a:lnTo>
                  <a:arcTo wR="100808" hR="101599" stAng="0" swAng="5400000"/>
                  <a:lnTo>
                    <a:pt x="100808" y="203198"/>
                  </a:lnTo>
                  <a:arcTo wR="100808" hR="101599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4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4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4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520" y="44114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520" y="469584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520" y="4979880"/>
              <a:ext cx="201600" cy="20160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201600"/>
                <a:gd name="textAreaBottom" fmla="*/ 172080 h 201600"/>
              </a:gdLst>
              <a:ahLst/>
              <a:rect l="textAreaLeft" t="textAreaTop" r="textAreaRight" b="textAreaBottom"/>
              <a:pathLst>
                <a:path w="201616" h="201616">
                  <a:moveTo>
                    <a:pt x="0" y="100808"/>
                  </a:moveTo>
                  <a:lnTo>
                    <a:pt x="0" y="100808"/>
                  </a:lnTo>
                  <a:arcTo wR="100808" hR="100808" stAng="10800000" swAng="5400000"/>
                  <a:lnTo>
                    <a:pt x="100808" y="0"/>
                  </a:lnTo>
                  <a:arcTo wR="100808" hR="100808" stAng="-5400000" swAng="5400000"/>
                  <a:lnTo>
                    <a:pt x="201616" y="100808"/>
                  </a:lnTo>
                  <a:arcTo wR="100808" hR="100808" stAng="0" swAng="5400000"/>
                  <a:lnTo>
                    <a:pt x="100808" y="201616"/>
                  </a:lnTo>
                  <a:arcTo wR="100808" hR="100808" stAng="5400000" swAng="5400000"/>
                  <a:close/>
                </a:path>
              </a:pathLst>
            </a:cu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360"/>
          </a:xfrm>
          <a:custGeom>
            <a:avLst/>
            <a:gdLst/>
            <a:ahLst/>
            <a:rect l="l" t="t" r="r" b="b"/>
            <a:pathLst>
              <a:path w="8229600" h="0">
                <a:moveTo>
                  <a:pt x="0" y="0"/>
                </a:moveTo>
                <a:lnTo>
                  <a:pt x="8229600" y="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572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572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572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538A-9081-4440-840C-3FC067415B78}" type="slidenum"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0066"/>
                </a:solidFill>
                <a:latin typeface="Arial"/>
              </a:rPr>
              <a:t>TEMA 1: EL SER HUMANO COMO ANIMAL PLURICELULAR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estro organismo está formado por cél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orgánulos de una célula hu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núcleo de l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embrana y los intercambios con el 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l funcionamiento de l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l metabolism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Células especializadas. Los tej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Tipos de tejidos: epitelial y nerv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Tejidos conectivos y mus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Órganos y sistemas de órg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Trans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9. LOS TEJIDOS CONECTIVOS Y EL TEJIDO MUSCUL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719360"/>
            <a:ext cx="403848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3.TEJIDO CONECTIV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unción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ión y sopor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Tiene abundante sustancia intercelular y fi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Conjuntivo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(relleno)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cupa el espacio entre órganos. (tejido adipo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Cartilaginos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unción de sostén. Esqueleto de embriones, articulaciones, orejas, nariz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Óse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onente de las huesos. Muy duro, sustancia intercelular mineral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719360"/>
            <a:ext cx="403848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4.TEJIDO MUSCULAR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esponsable d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vim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diferentes partes del organismo. Células= fibras musc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ay tres tip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Tejido muscular estriado esquelétic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úsculos que se unen a huesos. Movimiento volu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Tejido muscular estriado cardíaco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edes del corazón. Movimiento involu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Tejido muscular lis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paredes de estómago, vasos… contracción involun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10. ÓRGANOS Y SISTEMAS DE ÓRGAN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692316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tejidos se agrupan para formar estructuras llamadas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ÓRGANOS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Un órganos está formado por dos o más tejidos diferentes que se agrupan para realizar una nueva fun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conjunto de órganos con actividades muy relacionadas y que desarrollan una función compleja forman un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APARATO o SITEMA DE ÓRGANOS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(Sistema circulatorio, digestivo nervioso, respirator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761400" y="5877000"/>
            <a:ext cx="7966800" cy="6426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 ORGANISMO ESTÁ FORMADO POR ÓRGANOS 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STEMAS DE ÓRGANOS QUE FUNCIONAN DE MANERA COORDIN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j0235241"/>
          <p:cNvPicPr/>
          <p:nvPr/>
        </p:nvPicPr>
        <p:blipFill>
          <a:blip r:embed="rId1"/>
          <a:stretch/>
        </p:blipFill>
        <p:spPr>
          <a:xfrm>
            <a:off x="6877080" y="3860640"/>
            <a:ext cx="1959120" cy="13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11. TRASPLAN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771280" y="1719360"/>
            <a:ext cx="59151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TRASPLANT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sustituir un tejido, células u órganos enfermo y que pone en peligro la vida de una persona, llamada receptora, por otro que funcione adecuad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uede ser donant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sonas en situación  de muerte cere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sona viva tras la do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donante y receptor deben ser lo más </a:t>
            </a:r>
            <a:r>
              <a:rPr b="0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compatibl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posibles (sino rechaz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Tipos de transplan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transplante (mismo individu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sotransplante (gemel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otransplante (misma espec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enostransplante (distinta espec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j0240719"/>
          <p:cNvPicPr/>
          <p:nvPr/>
        </p:nvPicPr>
        <p:blipFill>
          <a:blip r:embed="rId1"/>
          <a:stretch/>
        </p:blipFill>
        <p:spPr>
          <a:xfrm>
            <a:off x="755640" y="2565360"/>
            <a:ext cx="1687680" cy="26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QUEMA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8" name="Picture 4" descr="mapa_serunipluricel"/>
          <p:cNvPicPr/>
          <p:nvPr/>
        </p:nvPicPr>
        <p:blipFill>
          <a:blip r:embed="rId1"/>
          <a:stretch/>
        </p:blipFill>
        <p:spPr>
          <a:xfrm>
            <a:off x="250920" y="1916280"/>
            <a:ext cx="8642160" cy="459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1. Nuestro organismo está formado por célula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Robert Hooke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(1665) Observó las células por primera ve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chleiden y Schwan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establecen la </a:t>
            </a:r>
            <a:r>
              <a:rPr b="0" i="1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Teoría Celular</a:t>
            </a:r>
            <a:r>
              <a:rPr b="0" i="1" lang="es-E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Todos los seres vivos están formados por célul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Las células son la unidad estructural y funcional de los S.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Toda célula procede por división de otra célula anteri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CÉLULA: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unidad estructural y funcional más pequeña de los S.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Organism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nicelular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ormados por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una sola célu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realiza todas las funciones (ameba, param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luricelular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muchas célul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 funciones específicas (animales y plan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Todas las células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tienen en comú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embrana celular o plasmá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fina capa que envuelve l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itoplas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isolución rica en agua que contiene los orgán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720" indent="-32652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úcleo cel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tructura que contiene el material gen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eucariotica"/>
          <p:cNvPicPr/>
          <p:nvPr/>
        </p:nvPicPr>
        <p:blipFill>
          <a:blip r:embed="rId1"/>
          <a:stretch/>
        </p:blipFill>
        <p:spPr>
          <a:xfrm>
            <a:off x="7667640" y="1700280"/>
            <a:ext cx="1297080" cy="126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2. Los orgánulos de una célula humana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MITOCONDRIAS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ovaladas y con doble membrana. Dan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energí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a la célul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VACUOLA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 vesículas membranosas.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Almacenan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productos de desecho o reser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LISOSOMAS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vesículas membranosas.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 Transforman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sustancias complejas en otras más sencill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CITOESQUELET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 red de filamentos. Forman el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esquelet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de la célul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CENTRIOLOS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cilindros huecos. Dirigen el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movimient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del citoesquele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APARATO DE GOLGI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 pilas de sacos membranosos aplanados y rodeados de vesículas. Su función es la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secreción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desde el retículo al exteri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RIBOSOMAS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partículas libres o adosadas a la membrana del retículo endoplasmático que se encargan de fabricar proteín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RETÍCULO ENDOPLASMÁTIC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acos, canales membranosos comunic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que fabrican proteínas o lípidos. Puede se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3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Lis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sin ribosomas ados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3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Rugoso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n riboso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celula-humana"/>
          <p:cNvPicPr/>
          <p:nvPr/>
        </p:nvPicPr>
        <p:blipFill>
          <a:blip r:embed="rId1"/>
          <a:stretch/>
        </p:blipFill>
        <p:spPr>
          <a:xfrm>
            <a:off x="5183280" y="4316400"/>
            <a:ext cx="396072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3. El núcleo de la célula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7596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Célul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rocariot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élulas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sin membr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uclear, material genético disperso por el citoplasma ( bacte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ucariota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élulas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n el núcleo separado del citoplas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or una membrana (animales y veget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</a:rPr>
              <a:t>Estructura del núcle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6"/>
          <p:cNvGrpSpPr/>
          <p:nvPr/>
        </p:nvGrpSpPr>
        <p:grpSpPr>
          <a:xfrm>
            <a:off x="2556000" y="3462480"/>
            <a:ext cx="5765760" cy="2717640"/>
            <a:chOff x="2556000" y="3462480"/>
            <a:chExt cx="5765760" cy="2717640"/>
          </a:xfrm>
        </p:grpSpPr>
        <p:cxnSp>
          <p:nvCxnSpPr>
            <p:cNvPr id="167" name="_s1028"/>
            <p:cNvCxnSpPr>
              <a:stCxn id="168" idx="4"/>
              <a:endCxn id="169" idx="4"/>
            </p:cNvCxnSpPr>
            <p:nvPr/>
          </p:nvCxnSpPr>
          <p:spPr>
            <a:xfrm flipV="1" rot="16200000">
              <a:off x="6554160" y="4568400"/>
              <a:ext cx="229320" cy="1191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1029"/>
            <p:cNvCxnSpPr>
              <a:stCxn id="171" idx="4"/>
              <a:endCxn id="169" idx="5"/>
            </p:cNvCxnSpPr>
            <p:nvPr/>
          </p:nvCxnSpPr>
          <p:spPr>
            <a:xfrm flipH="1" flipV="1" rot="5400000">
              <a:off x="5363640" y="4568760"/>
              <a:ext cx="229320" cy="1190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30"/>
            <p:cNvCxnSpPr>
              <a:stCxn id="169" idx="6"/>
              <a:endCxn id="173" idx="4"/>
            </p:cNvCxnSpPr>
            <p:nvPr/>
          </p:nvCxnSpPr>
          <p:spPr>
            <a:xfrm flipV="1" rot="16200000">
              <a:off x="5641560" y="3715560"/>
              <a:ext cx="229320" cy="635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31"/>
            <p:cNvCxnSpPr>
              <a:stCxn id="175" idx="4"/>
              <a:endCxn id="173" idx="5"/>
            </p:cNvCxnSpPr>
            <p:nvPr/>
          </p:nvCxnSpPr>
          <p:spPr>
            <a:xfrm flipH="1" flipV="1" rot="5400000">
              <a:off x="4425120" y="3134160"/>
              <a:ext cx="229320" cy="1799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1032"/>
            <p:cNvSpPr/>
            <p:nvPr/>
          </p:nvSpPr>
          <p:spPr>
            <a:xfrm>
              <a:off x="4640400" y="3462480"/>
              <a:ext cx="1596960" cy="457200"/>
            </a:xfrm>
            <a:prstGeom prst="pi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ÚCLE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_s1033"/>
            <p:cNvSpPr/>
            <p:nvPr/>
          </p:nvSpPr>
          <p:spPr>
            <a:xfrm>
              <a:off x="2556000" y="4148280"/>
              <a:ext cx="2168640" cy="901440"/>
            </a:xfrm>
            <a:prstGeom prst="pie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VOLTUR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ble membran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 poros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_s1034"/>
            <p:cNvSpPr/>
            <p:nvPr/>
          </p:nvSpPr>
          <p:spPr>
            <a:xfrm>
              <a:off x="4989600" y="4148280"/>
              <a:ext cx="2168640" cy="9014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CLEOPLASM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ido del núcle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3827520" y="5278680"/>
              <a:ext cx="2112840" cy="90144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OMATIN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amentos de AD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cromosom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>
              <a:off x="6207120" y="5278680"/>
              <a:ext cx="2114640" cy="9014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CLEOLO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feras que fabrica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bosom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4. EL FUNCIONAMIENTO DE LA CÉLU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7" name="Diagram 5"/>
          <p:cNvGrpSpPr/>
          <p:nvPr/>
        </p:nvGrpSpPr>
        <p:grpSpPr>
          <a:xfrm>
            <a:off x="1135440" y="353160"/>
            <a:ext cx="7053840" cy="7054560"/>
            <a:chOff x="1135440" y="353160"/>
            <a:chExt cx="7053840" cy="7054560"/>
          </a:xfrm>
        </p:grpSpPr>
        <p:sp>
          <p:nvSpPr>
            <p:cNvPr id="178" name="_s2052"/>
            <p:cNvSpPr/>
            <p:nvPr/>
          </p:nvSpPr>
          <p:spPr>
            <a:xfrm>
              <a:off x="2081160" y="1298520"/>
              <a:ext cx="5162760" cy="5164200"/>
            </a:xfrm>
            <a:custGeom>
              <a:avLst/>
              <a:gdLst>
                <a:gd name="textAreaLeft" fmla="*/ 0 w 5162760"/>
                <a:gd name="textAreaRight" fmla="*/ 5163120 w 5162760"/>
                <a:gd name="textAreaTop" fmla="*/ 0 h 5164200"/>
                <a:gd name="textAreaBottom" fmla="*/ 28440 h 516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70" y="2106"/>
                  </a:moveTo>
                  <a:cubicBezTo>
                    <a:pt x="9230" y="1903"/>
                    <a:pt x="10013" y="1800"/>
                    <a:pt x="10799" y="1800"/>
                  </a:cubicBezTo>
                  <a:cubicBezTo>
                    <a:pt x="11586" y="1799"/>
                    <a:pt x="12369" y="1903"/>
                    <a:pt x="13129" y="2106"/>
                  </a:cubicBezTo>
                  <a:lnTo>
                    <a:pt x="13595" y="368"/>
                  </a:lnTo>
                  <a:cubicBezTo>
                    <a:pt x="12683" y="123"/>
                    <a:pt x="11743" y="0"/>
                    <a:pt x="10800" y="0"/>
                  </a:cubicBezTo>
                  <a:cubicBezTo>
                    <a:pt x="9856" y="-1"/>
                    <a:pt x="8916" y="123"/>
                    <a:pt x="8004" y="368"/>
                  </a:cubicBez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_s2053"/>
            <p:cNvSpPr/>
            <p:nvPr/>
          </p:nvSpPr>
          <p:spPr>
            <a:xfrm rot="3600000">
              <a:off x="2079720" y="1299240"/>
              <a:ext cx="5164200" cy="5162760"/>
            </a:xfrm>
            <a:custGeom>
              <a:avLst/>
              <a:gdLst>
                <a:gd name="textAreaLeft" fmla="*/ 0 w 5164200"/>
                <a:gd name="textAreaRight" fmla="*/ 5164560 w 5164200"/>
                <a:gd name="textAreaTop" fmla="*/ 0 h 5162760"/>
                <a:gd name="textAreaBottom" fmla="*/ 28440 h 516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70" y="2106"/>
                  </a:moveTo>
                  <a:cubicBezTo>
                    <a:pt x="9230" y="1903"/>
                    <a:pt x="10013" y="1800"/>
                    <a:pt x="10799" y="1800"/>
                  </a:cubicBezTo>
                  <a:cubicBezTo>
                    <a:pt x="11586" y="1799"/>
                    <a:pt x="12369" y="1903"/>
                    <a:pt x="13129" y="2106"/>
                  </a:cubicBezTo>
                  <a:lnTo>
                    <a:pt x="13595" y="368"/>
                  </a:lnTo>
                  <a:cubicBezTo>
                    <a:pt x="12683" y="123"/>
                    <a:pt x="11743" y="0"/>
                    <a:pt x="10800" y="0"/>
                  </a:cubicBezTo>
                  <a:cubicBezTo>
                    <a:pt x="9856" y="-1"/>
                    <a:pt x="8916" y="123"/>
                    <a:pt x="8004" y="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_s2054"/>
            <p:cNvSpPr/>
            <p:nvPr/>
          </p:nvSpPr>
          <p:spPr>
            <a:xfrm rot="7200000">
              <a:off x="2079720" y="1298880"/>
              <a:ext cx="5164200" cy="5162760"/>
            </a:xfrm>
            <a:custGeom>
              <a:avLst/>
              <a:gdLst>
                <a:gd name="textAreaLeft" fmla="*/ 0 w 5164200"/>
                <a:gd name="textAreaRight" fmla="*/ 5164560 w 5164200"/>
                <a:gd name="textAreaTop" fmla="*/ 0 h 5162760"/>
                <a:gd name="textAreaBottom" fmla="*/ 28440 h 516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70" y="2106"/>
                  </a:moveTo>
                  <a:cubicBezTo>
                    <a:pt x="9230" y="1903"/>
                    <a:pt x="10013" y="1800"/>
                    <a:pt x="10799" y="1800"/>
                  </a:cubicBezTo>
                  <a:cubicBezTo>
                    <a:pt x="11586" y="1799"/>
                    <a:pt x="12369" y="1903"/>
                    <a:pt x="13129" y="2106"/>
                  </a:cubicBezTo>
                  <a:lnTo>
                    <a:pt x="13595" y="368"/>
                  </a:lnTo>
                  <a:cubicBezTo>
                    <a:pt x="12683" y="123"/>
                    <a:pt x="11743" y="0"/>
                    <a:pt x="10800" y="0"/>
                  </a:cubicBezTo>
                  <a:cubicBezTo>
                    <a:pt x="9856" y="-1"/>
                    <a:pt x="8916" y="123"/>
                    <a:pt x="8004" y="368"/>
                  </a:cubicBez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_s2055"/>
            <p:cNvSpPr/>
            <p:nvPr/>
          </p:nvSpPr>
          <p:spPr>
            <a:xfrm rot="10799400">
              <a:off x="2080440" y="1298160"/>
              <a:ext cx="5162760" cy="5164200"/>
            </a:xfrm>
            <a:custGeom>
              <a:avLst/>
              <a:gdLst>
                <a:gd name="textAreaLeft" fmla="*/ 0 w 5162760"/>
                <a:gd name="textAreaRight" fmla="*/ 5163120 w 5162760"/>
                <a:gd name="textAreaTop" fmla="*/ 0 h 5164200"/>
                <a:gd name="textAreaBottom" fmla="*/ 28440 h 516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70" y="2106"/>
                  </a:moveTo>
                  <a:cubicBezTo>
                    <a:pt x="9230" y="1903"/>
                    <a:pt x="10013" y="1800"/>
                    <a:pt x="10799" y="1800"/>
                  </a:cubicBezTo>
                  <a:cubicBezTo>
                    <a:pt x="11586" y="1799"/>
                    <a:pt x="12369" y="1903"/>
                    <a:pt x="13129" y="2106"/>
                  </a:cubicBezTo>
                  <a:lnTo>
                    <a:pt x="13595" y="368"/>
                  </a:lnTo>
                  <a:cubicBezTo>
                    <a:pt x="12683" y="123"/>
                    <a:pt x="11743" y="0"/>
                    <a:pt x="10800" y="0"/>
                  </a:cubicBezTo>
                  <a:cubicBezTo>
                    <a:pt x="9856" y="-1"/>
                    <a:pt x="8916" y="123"/>
                    <a:pt x="8004" y="368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_s2056"/>
            <p:cNvSpPr/>
            <p:nvPr/>
          </p:nvSpPr>
          <p:spPr>
            <a:xfrm rot="14399400">
              <a:off x="2080080" y="1298880"/>
              <a:ext cx="5164200" cy="5162760"/>
            </a:xfrm>
            <a:custGeom>
              <a:avLst/>
              <a:gdLst>
                <a:gd name="textAreaLeft" fmla="*/ 0 w 5164200"/>
                <a:gd name="textAreaRight" fmla="*/ 5164560 w 5164200"/>
                <a:gd name="textAreaTop" fmla="*/ 0 h 5162760"/>
                <a:gd name="textAreaBottom" fmla="*/ 28440 h 516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70" y="2106"/>
                  </a:moveTo>
                  <a:cubicBezTo>
                    <a:pt x="9230" y="1903"/>
                    <a:pt x="10013" y="1800"/>
                    <a:pt x="10799" y="1800"/>
                  </a:cubicBezTo>
                  <a:cubicBezTo>
                    <a:pt x="11586" y="1799"/>
                    <a:pt x="12369" y="1903"/>
                    <a:pt x="13129" y="2106"/>
                  </a:cubicBezTo>
                  <a:lnTo>
                    <a:pt x="13595" y="368"/>
                  </a:lnTo>
                  <a:cubicBezTo>
                    <a:pt x="12683" y="123"/>
                    <a:pt x="11743" y="0"/>
                    <a:pt x="10800" y="0"/>
                  </a:cubicBezTo>
                  <a:cubicBezTo>
                    <a:pt x="9856" y="-1"/>
                    <a:pt x="8916" y="123"/>
                    <a:pt x="8004" y="36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_s2057"/>
            <p:cNvSpPr/>
            <p:nvPr/>
          </p:nvSpPr>
          <p:spPr>
            <a:xfrm rot="18000000">
              <a:off x="2080440" y="1298880"/>
              <a:ext cx="5164200" cy="5162760"/>
            </a:xfrm>
            <a:custGeom>
              <a:avLst/>
              <a:gdLst>
                <a:gd name="textAreaLeft" fmla="*/ 0 w 5164200"/>
                <a:gd name="textAreaRight" fmla="*/ 5164560 w 5164200"/>
                <a:gd name="textAreaTop" fmla="*/ 0 h 5162760"/>
                <a:gd name="textAreaBottom" fmla="*/ 28440 h 516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70" y="2106"/>
                  </a:moveTo>
                  <a:cubicBezTo>
                    <a:pt x="9230" y="1903"/>
                    <a:pt x="10013" y="1800"/>
                    <a:pt x="10799" y="1800"/>
                  </a:cubicBezTo>
                  <a:cubicBezTo>
                    <a:pt x="11586" y="1799"/>
                    <a:pt x="12369" y="1903"/>
                    <a:pt x="13129" y="2106"/>
                  </a:cubicBezTo>
                  <a:lnTo>
                    <a:pt x="13595" y="368"/>
                  </a:lnTo>
                  <a:cubicBezTo>
                    <a:pt x="12683" y="123"/>
                    <a:pt x="11743" y="0"/>
                    <a:pt x="10800" y="0"/>
                  </a:cubicBezTo>
                  <a:cubicBezTo>
                    <a:pt x="9856" y="-1"/>
                    <a:pt x="8916" y="123"/>
                    <a:pt x="8004" y="368"/>
                  </a:cubicBez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_s2058"/>
            <p:cNvSpPr/>
            <p:nvPr/>
          </p:nvSpPr>
          <p:spPr>
            <a:xfrm>
              <a:off x="5346720" y="1330200"/>
              <a:ext cx="100152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3120" rIns="123120" tIns="61560" bIns="6156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TOCONDRI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 energía par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bricar la proteín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_s2059"/>
            <p:cNvSpPr/>
            <p:nvPr/>
          </p:nvSpPr>
          <p:spPr>
            <a:xfrm>
              <a:off x="2979720" y="1328400"/>
              <a:ext cx="100152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3120" rIns="123120" tIns="61560" bIns="615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SALIDA D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EÍN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_s2060"/>
            <p:cNvSpPr/>
            <p:nvPr/>
          </p:nvSpPr>
          <p:spPr>
            <a:xfrm>
              <a:off x="6531120" y="3379680"/>
              <a:ext cx="10000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3120" rIns="123120" tIns="61560" bIns="615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OBTENCIÓN DE UN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PIA DEL AD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 del núcleo 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s ribosom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_s2061"/>
            <p:cNvSpPr/>
            <p:nvPr/>
          </p:nvSpPr>
          <p:spPr>
            <a:xfrm>
              <a:off x="5346720" y="5429520"/>
              <a:ext cx="100152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3120" rIns="123120" tIns="61560" bIns="615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BOSOM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brican la proteín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_s2062"/>
            <p:cNvSpPr/>
            <p:nvPr/>
          </p:nvSpPr>
          <p:spPr>
            <a:xfrm>
              <a:off x="2979720" y="5429520"/>
              <a:ext cx="100152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3120" rIns="123120" tIns="61560" bIns="6156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BOSOM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porta l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eínas 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. endoplasmát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_s2063"/>
            <p:cNvSpPr/>
            <p:nvPr/>
          </p:nvSpPr>
          <p:spPr>
            <a:xfrm>
              <a:off x="1797120" y="3379680"/>
              <a:ext cx="10000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. GOLG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aqueta e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sículas l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écul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Picture 21" descr="celula_vegetal"/>
            <p:cNvPicPr/>
            <p:nvPr/>
          </p:nvPicPr>
          <p:blipFill>
            <a:blip r:embed="rId1"/>
            <a:stretch/>
          </p:blipFill>
          <p:spPr>
            <a:xfrm>
              <a:off x="3851280" y="3068640"/>
              <a:ext cx="1574640" cy="1191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5. La membrana y los intercambios con el medio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2852640"/>
            <a:ext cx="4038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DIFUSIÓN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transporte pasivo de pequeñas moléculas (CO2, O2) que atraviesan la membrana: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↑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concentrada]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→ ↓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concentrad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2920" y="2852640"/>
            <a:ext cx="40388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) 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TRANSPORTE ACTIVO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supone un gasto de energía para transportar sustancias des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↓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concentrada]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→ ↑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concentrada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8360" y="220500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USIÓN Y TRANSPORTE ACTIV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oléculas pequeñ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pueden atravesar la membrana po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DOCITOSIS Y EXOCITOSI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partícula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ran tamañ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no atraviesan la membrana. En estos cas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docitosi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la membrana engloba a la partícu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)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ocitosi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las vesículas vierten su contenido al ex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50920" y="155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membrana plasmática tiene permeabilidad selectiva, deja pasar algunas sustancias e impide el paso de otr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6. EL METABOLISMO CELULAR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6121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El conjunto de reacciones químicas que suceden en el interior de la célula constituyen el metabolis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Tipos de metabolism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tabolism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eacciones qu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gradan </a:t>
            </a:r>
            <a:r>
              <a:rPr b="0" lang="es-ES" sz="2000" spc="-1" strike="noStrike">
                <a:solidFill>
                  <a:srgbClr val="330066"/>
                </a:solidFill>
                <a:latin typeface="Arial"/>
              </a:rPr>
              <a:t>moléculas complej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otras más sencillas liberando energía.                                                               Ej: respiración cel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úcidos →C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+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abolism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truyen moléculas complej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 partir de otras </a:t>
            </a:r>
            <a:r>
              <a:rPr b="0" lang="es-ES" sz="2000" spc="-1" strike="noStrike">
                <a:solidFill>
                  <a:srgbClr val="330066"/>
                </a:solidFill>
                <a:latin typeface="Arial"/>
              </a:rPr>
              <a:t>más sencill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necesita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: fabricación de prote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2"/>
          <p:cNvSpPr/>
          <p:nvPr/>
        </p:nvSpPr>
        <p:spPr>
          <a:xfrm>
            <a:off x="1403280" y="6165720"/>
            <a:ext cx="5854680" cy="36828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oléculas complejas →← Moléculas sencillas+ Energ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33" descr="image45"/>
          <p:cNvPicPr/>
          <p:nvPr/>
        </p:nvPicPr>
        <p:blipFill>
          <a:blip r:embed="rId1"/>
          <a:stretch/>
        </p:blipFill>
        <p:spPr>
          <a:xfrm>
            <a:off x="6276960" y="1700280"/>
            <a:ext cx="2867040" cy="43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7. CÉLULAS ESPECIALIZADAS. LOS TEJI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ganismos pluricelulares aumentan sus células por </a:t>
            </a:r>
            <a:r>
              <a:rPr b="0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división celul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a célula mantiene la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capacidad de divis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otra célula se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especializa y pierd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la capacidad de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divis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La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supo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Hacer un trabajo determin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esarrollar una forma característica y cambia su citoplasma adecuándose a la función que desempeñ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os tej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son un agregado de célula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eneralmente del mismo tipo, organiz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 realizar una función común. Entre 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élulas hay </a:t>
            </a:r>
            <a:r>
              <a:rPr b="0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sustancia intercelul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tejido4"/>
          <p:cNvPicPr/>
          <p:nvPr/>
        </p:nvPicPr>
        <p:blipFill>
          <a:blip r:embed="rId1"/>
          <a:stretch/>
        </p:blipFill>
        <p:spPr>
          <a:xfrm>
            <a:off x="6588000" y="4508640"/>
            <a:ext cx="1868760" cy="175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8. TIPOS DE TEJIDOS. EL TEJIDO EPITELIAL Y EL NERVIOS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5280" y="1628640"/>
            <a:ext cx="42480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1.TEJIDO EPITELIAL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 Recubre la superficie externa e interna del cuerpo y órganos sin apenas sustancia intercelul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Tip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Arial"/>
              </a:rPr>
              <a:t>Epitelio de revestimien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función protecto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Arial"/>
              </a:rPr>
              <a:t>Epitelio glandula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roduce y segrega sustancias. Glándul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64000" y="1844640"/>
            <a:ext cx="3610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2.TEJIDO NERVIOSO: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(Encéfalo, médula espinal y nervios)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Recoge la información del exterior e interior del cuerpo y la transmite a los lugares donde se elaboran respuestas adecuad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Células nerviosa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Arial"/>
              </a:rPr>
              <a:t>Neur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Arial"/>
              </a:rPr>
              <a:t>Células Gliales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oporte, defensa y nutrición de neur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183-630"/>
          <p:cNvPicPr/>
          <p:nvPr/>
        </p:nvPicPr>
        <p:blipFill>
          <a:blip r:embed="rId1"/>
          <a:stretch/>
        </p:blipFill>
        <p:spPr>
          <a:xfrm>
            <a:off x="1908000" y="4124160"/>
            <a:ext cx="3819600" cy="27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5:21:53Z</dcterms:created>
  <dc:creator>Meri</dc:creator>
  <dc:description/>
  <dc:language>en-US</dc:language>
  <cp:lastModifiedBy>Centor</cp:lastModifiedBy>
  <dcterms:modified xsi:type="dcterms:W3CDTF">2015-09-27T22:41:38Z</dcterms:modified>
  <cp:revision>70</cp:revision>
  <dc:subject/>
  <dc:title>TEMA 1: EL SER HUMANO COMO ANIMAL PLURICELULAR</dc:title>
</cp:coreProperties>
</file>